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91C-331D-4DE8-8F02-871C12BC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4EC-6F44-4F09-84F6-28BC5C4B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E29E4-A194-4FCD-842F-EFE527FF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91F6B-CA6E-4F62-8B99-73CA6AE9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DEB8C-BA6B-4FFC-BA5E-444C804E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243DE-5ABB-4E50-B82C-C012A8A9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FAE57-8928-460B-8180-38732250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7A47B-5DB8-4F08-B7F3-697D4A71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7ADFC-5F04-4F67-A112-9483A542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597AA-EAED-45A5-A1E8-8433F850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7B968-354A-4629-9EEF-68D0BFB8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15295-6F37-492E-8E22-32CCC718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365-1860-4FFD-8E86-09F83021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E7A9E-19BB-459D-9B5D-9C843E5D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2B694-D96C-448C-AAD6-03667BFE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967D0-A027-48EF-9664-4F7A9E43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EA77A-F9FE-45AB-ABD2-F7A1F839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A6561-6277-4C18-8A3D-8218B775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2BA05-68AF-4683-BF6D-FA223495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BC434-478E-4B17-A033-8CBE211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E97CD-5717-4C21-85E3-44B24823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ABDB4-7E56-4CD6-A785-8ED1EB4C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34BD4-010E-4569-B24E-BC4832E9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0DE-8793-4391-9ADD-D071D8A6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D0884-E618-4B4A-B710-668F7C25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AFF87-AABA-416F-B534-7A52E3E7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8326D-16F4-4784-87F3-675589F1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49296-8DA3-4FF6-A831-D633F096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06533-7522-46DB-BD60-1A0BAA12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6623F-4ED9-4F98-9890-39DA47C6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91C75-9CA5-4332-8348-C4539924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7E9D-C693-4201-9C2B-EDF3DD6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DB044-E0DF-4642-9809-772E24A6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5BF9F-F3FF-4926-AE78-53B1686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A82E-11E1-4040-8402-BB03C686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37A58-08BE-468B-AA6F-CAD769FC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12511-BF2C-41DB-BE1C-47F24422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8DC2B-8DFE-46DB-85F1-7B44FBCC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6DA3B-AFBA-4637-87A2-0C01B59F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460B2-74FD-4AE3-BF74-9333C793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B056D-A5D6-46FD-B868-24CB8DE7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47024-FFF6-4A60-9B03-6C1DDAC3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53226-E1AF-432E-B2AC-D5FF5F3C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4C9CB-0261-4496-A40B-F9B9A016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12F2B-A530-4D69-AF6F-0DB0908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CC8E-C0E5-4549-A830-6C3C37BB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FD9E4-3500-4F1A-B695-D34A477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BD17D-28E5-4FA0-B29A-76CD3538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8AA34-5571-4721-9650-C226830D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0A36D-2D8C-462C-A2B1-CA612752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2A4D8-CA54-4850-9E01-C7DD3A6E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F1692-AD2F-490A-99A9-498CA8C9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B202A-8254-4C2C-9154-536D3BE1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76F65-3BF1-4D0B-B42B-F72BBDCD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6DE69-6512-4DB1-8E4E-DB0F083A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E6E40-09BE-462B-AB51-2C0C0981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DDD4-8768-4390-BD02-D6395D49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B9EA8-7F43-4B71-B2EA-99D676BF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FF981-40A1-4EBD-B304-12FCA06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21E15-44EC-4720-AD5A-7F873E5A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4DD96-95EA-4917-B3F5-4680B28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266E6-9AB1-4523-A341-7B0BD053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1C90A-6304-4EAB-BE1A-70B102C2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30143-42C3-42A9-9E10-BF1B8CF9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1595F-8BA8-4FB6-B000-763955A4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97FDE-0DBC-4162-9E39-951A0B0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4272A-AB37-40DD-B412-6CEFD201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5E4A-D76F-47DF-B386-2A52222E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0E7B7-4D3A-4CCC-BEF7-805A5925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ABCD9-90ED-4F85-A4FA-B5CC9EE5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1AB5C-577F-4F39-8A89-404F42DE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0F604-1C7E-4A84-9910-D803DA6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A8732-CD32-4D9C-9BF4-6369987E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E9A0B-87A7-4702-B5AA-CEA3CBD9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6FCD9-B0AA-4635-8115-7C42A869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94D60-A2D7-421F-AA25-E2C9ED7B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89C03-403A-4AC5-9642-2FE26B93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D8F76-EBC7-4F62-9A8E-FA173FE4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D030-C3DA-4B67-B811-7143EBB6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FB7AE-7BCB-487E-8770-1EC57859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8AB79-C902-49F2-B1C6-7FBEE60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0094D-FF51-4CC0-9C7D-7B3D3202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1DF9C-BC6E-48AD-9FE9-7705E6EB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AC155-29F6-4B45-BE97-52751A35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96CF7-74E3-4B88-A3B3-F49FFFA9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37609-6D1D-4B86-813F-D8A0D0C0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016FA-DEB0-497E-A0A1-7C06EC5A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F7263-9756-40CD-A5F2-58A7C345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B422A-83B2-449D-8540-82492A1B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4B8E-FA45-4DF3-BBBD-B739CE62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82CC7-B5BE-49D1-94F0-54D8416B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88BD3-D799-4B06-8BEA-02998216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F3AC4-1F16-4141-8802-7C8B4F0C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1BCBD-A376-41D3-8996-7A78A36A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E89ED-4644-4C60-BFA5-FCD2AB82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77C88-B3D9-4890-9183-499B255A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DAC0C-3A42-43A2-869D-A8B59644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2350D-51AD-4C2B-BC14-A0F09F69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7DA32-8379-4AB1-B886-C38D69F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3246A-9222-42D0-B46F-1E536307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2735-E741-48F2-A425-EF703786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65BBF-466D-467F-97AC-9BCF6BE4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4C55F-5B27-4D95-9011-B08FC252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D6645-EC4B-44CD-93F4-893491B0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18D9EC-03CD-47B3-8CAF-BE2324A1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969A6-B66B-4AF6-A8D7-D086948D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9A404B-C00C-4C58-A44E-27F6E4E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C9D81-7A49-4E26-942D-4C822299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DFF30-A8A3-4A1E-A5AF-48224F9A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1EA16-92F2-4E77-86BC-0883EEC0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BC6E1-1C6A-41A3-A55C-C139D7E9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3DC-BF50-4B4B-AAEE-388F0F07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3176-C217-4785-AA71-0766D157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DD63C-270F-4E20-BD53-6222E57F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184C4-C7B6-4063-A25B-E9A95D71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D0A92-3A8B-4FA6-A3F6-886A3B7A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F5936-C760-4D69-B31C-194985AD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5C90D-B869-42EC-8FAE-9652386C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87337-599C-452F-8B82-8E477A1A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1D59E-3B87-426A-9822-E060106F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24265-3983-4FBC-9D73-BF7F5444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DA18A-BA27-449D-A0DC-FC437DF2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D04CC-D3AA-4D7B-90F8-D9F4C7E4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2E3A-2FFF-49CB-9D14-B7F236CB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59B90-5499-41E1-BC66-2E41F65C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EBE8F-24F8-494B-AEFE-F40627E1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C3482-F63D-4EC3-BD5E-13001FA6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610BA8-E867-41C6-B8A2-9F66933A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05B88-990C-47B8-B4D1-BB9D719D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1E69C-950A-4FA3-916E-5CB0BDEF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0F281-C20B-4A60-A1CB-6E1FA68E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120F7F-9C12-46B2-97CA-E84B926F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E8942-2A70-43C4-95A6-80EE6111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6E86D-AF1C-45BB-B2A5-66EE481B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9BD0-F5AF-4752-A4CB-39A1D66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F37DFB-1BCD-49D1-AB4A-BF64D5F3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F6EAB-4DC9-44DE-9941-52E4F02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AECB2-3DE4-412D-AC53-0901CDF3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05F38-A994-47CF-BDDC-DC4F01D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36D1D-0F9D-44B8-A7EE-2A06959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28E6A-0C1A-4481-9D9D-44F38C46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8936C-0A7C-4642-88DC-5B085D2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79337-475E-4325-9318-3335C6CA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53F79-4E7F-48F8-BC7C-47ACA348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5AF38-1D1B-417B-A6BD-9B681529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7457-537D-4B1F-958B-477CDFC5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6C0E1-CF9B-48FA-ABEA-1055AAE7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F3A65-D7CD-432D-B50F-F1441E5B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EEAEC-A149-453B-828C-ABA019E3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3C04E-AAED-424A-BA7E-8D03296E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0240F9-0ADF-48FD-9D49-F2515602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85004-758D-4074-84A7-F1574084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541CB4-44C5-4D23-8C25-40234C3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701D5-38D7-4CDA-BCBB-C0B5DA3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6C43F-9259-46E5-9490-ABA2320C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A43C7-925A-4A7B-A707-90A0857D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C29B-27C5-4630-8934-26907304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AB0DA7-B8A2-46A8-B386-369618F4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FAF4E-FB06-41BF-9FB9-713AC168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C34D74-0BB3-4028-AB53-3D3A9AF8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632B43-9C47-4408-8E1F-A503D62B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29432-9138-419A-B3F9-3C76FA6E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D30F0F-6C6C-4F98-B062-B6308AB4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C7A2C-58C3-4E11-ABCC-300B2ED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3C5E4-9156-464B-9D65-7E57E9B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4B9F5-D09F-46D2-948D-A6F87AD4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066FD-96F9-44B1-AC77-C305F8A1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DA21-60CB-469B-B6F1-BD06D388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6D077-BB92-4F6B-857F-9BCACE19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98DCE-C647-4B7B-8056-E889AEDA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6E430-0DC1-4180-8C5C-0FC153F0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2B4C9B-544A-4147-B48B-C3C7501E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8C286D-B927-4E78-A878-E76DE70F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86734E-F0AB-4A9D-9985-305B719E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E8A6C-AEE3-42A1-AA9B-620394A7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DB7186-92AD-4DA7-8A64-93EDE94E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448726-B118-4EFA-9607-C9783EB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97BC4F-3129-4F03-880E-4C79E1F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BE5C-B93D-4B23-B05E-06DD7CC0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52B1F5-30B9-4853-A9F4-185D941B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EC4A2C-206B-49D5-8AC6-38C03F0F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27B394-F3E8-4409-91F2-4930C20D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4DC38D-49BF-4C35-8A3C-AE0594D8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6A1F8A-61D8-4FEE-A9B9-E28B92FB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5A2FC7-CAEB-43B0-BE0E-4B35292A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A6BD3-588C-4762-A4E8-1E869281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A98482-28A3-4034-BE67-8488AD26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C7299F-5977-4DF3-BF62-0530423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554189-ABBF-4F39-AB81-CD2B5A16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5850-3EF8-4D1D-8F06-F998E996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036F30-1F46-4B00-9459-3202D750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89819C-2A7B-45EB-B400-7F0DFE53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1F5BC4-157F-447D-99DA-82460CBB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594D4F-A88B-4E80-A886-37D74E1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022E8B-59F0-4D7B-8F93-4E6459B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184190-C2CB-490F-AB8E-3D6503E1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8F784-09FA-47D8-9378-E653ED21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7C6ED7-26B4-4A9A-B616-B0D8387F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49C8F0-03D8-4D08-ABEB-0F3849D5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41019D-FBD5-4391-95D2-FC4E6181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4454-8200-436B-8319-F9DFBD1F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2E39C8-D56D-4719-9515-E3427FC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606518-6EF8-418E-9D26-558EF59E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2A73E9-B252-41C6-A272-BE49B7C0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D1A4D8-52A8-4517-9897-C43169D4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842D91-E7AC-40CC-85BA-A37785BC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AB2C4B-3FD4-4FF7-8C60-9E1883C8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91BD2-57EF-43FF-834F-607BE3CA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505B17-B538-40A4-ABFD-08DF8951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D3A9AD-7422-4B83-8ACB-7148AE51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14936F-F9C3-4AB1-8E4B-E7F36B49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1054-A24A-4B1D-A11D-2A8C4FA0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AB57D0-A544-4C90-BD28-B4C649F7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9700F9-1BCA-4618-92CE-5C19EFEC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3AC6E2-E317-46AA-B75B-4CEB5AB7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5D04C2-1555-467C-B895-9F2ABF04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150658-6751-41FF-AABD-50F1A5C2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8C15BC-FE18-4255-98A2-E29D1470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68F620-3C39-4566-864B-FD64E65C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083A6F-DDBD-4DF6-B0F2-28E5E11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0905F5-1DF5-4A59-8923-C2B9F76D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C3119F-7744-48EF-9C88-71BD749C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627-CE18-4BEE-960A-13230940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FF03-613F-4FD8-B9EA-311203E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AA2D43-6363-4C55-882D-61D287CC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C9BD8F-3E5A-410E-9A97-ED35639F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981D22-3C56-4E04-B345-A6179C3F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F995F4-6035-4121-AD37-3F909410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4BDAE7-E467-4054-B930-C0741D41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C6907C-9760-4798-A3D4-61FC1C98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DB686A-713F-49BA-A305-A0F91CA1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707E26-6E20-4D96-BBA9-48E0BDC3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F0CDD5-770D-4F4F-9540-1A9DB8F4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EA9C46-9DEC-4E77-BAB1-17EE939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A3A6-6572-4FBB-A5A8-3AF8F75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99E9E1-E235-49D1-B22C-8DB6C0F6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04D234-1BBB-4F48-964F-1A38812C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2864DF-ED8E-4DC0-B92A-E5488159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805521-4DAA-40A4-A96D-0CBE8AF3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179CF2-F8CC-427C-8C0F-FFF4F0CA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6C033A-B88B-416B-BA3D-751DA52A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D4FF91-BF1E-4357-B3A1-1488E262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D9C393-D54D-4B1E-8A73-098445FF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2DA591-1717-47F0-A327-B9A25DB3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A30366-B6AE-46C0-84DA-EF86A68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6BA0-B67B-40D4-B5B8-E72EAB3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05EE88-E9CC-4C85-BD73-430F6D6C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4DA6C8-C8C5-4090-AA61-8FE42E41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9DE064-A0D6-4B70-80CF-8638939B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5F0FF2-543D-4D17-A72C-181405B8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A651F5-95E1-48FB-954B-B06BD4E3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CAC467-A225-427D-82D9-8ED4B832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AC1056-8576-47D8-BE94-E2D6FE1C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847A39-B9AB-481C-A34C-EC2CF421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55DD50-A7D4-4741-9BF7-F6B73B45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261EDC-AE9B-4FAA-833A-6A9932B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7655-E9FF-4551-8462-976D9BA5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4BD715-EFD3-499B-AE5D-6CE641AD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90B2BA-EDBE-43B8-8ADE-D37D72C0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AA7216-8B22-4FC7-8BA0-ECB6F043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8B7F31-20FC-4CE7-ACCD-3A6136C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BC7FFD-26CB-4FB2-968E-6AB7E81B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32316D-D755-4671-94A9-A812CA1C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602ED0-CFE4-4F2D-A838-3263744C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5FE91C-AF35-48DA-BAB6-22BE4916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4716C9-270D-4299-81C0-B66ADB42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9331C7-3224-441C-9F70-44939E88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4551-026F-484A-AC2D-CC7C42E2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F8A606-5D6E-4AFB-A075-56CC857F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907F03-9F51-495B-B06E-A8AA616B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196C47-F690-4C71-9620-79D5579D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E41617-7B40-4AAC-A094-EECC8253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A1C05C-AF30-42D5-B8C1-602AE01F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E536D9-B13D-4184-A80D-FBB31E84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792087-9003-4A4D-B422-ACCF8E3D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310D69-E0BA-4D80-A02D-0474760C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97D315-8BAF-4C2F-A784-65B0DA56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E4B161-6BF7-4444-8745-2166422C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FA94-D374-49E8-A722-E2C14B58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7928D7-B5CF-4C62-AA3B-CBA155EA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3B77B2-6AFD-4885-9670-9237050E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7AC373-524A-4902-9DA8-926DC66B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9314E0-9331-493A-83F8-85D846BD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EDE38F-0B08-4CBA-B5CC-E6D86871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03AC1B-2C85-4F8C-A03E-4F90064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790DBD-A8E6-409C-87A5-E828E94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6D0974-3646-4FD2-966D-E1FFA14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40374B-6DD0-4AA2-A59B-890618DF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FE2B6C-DE64-46B4-BB21-E43662EF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A56B-990F-4751-9AC8-9D733778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15820C-E365-41F6-B268-2FEE8ECC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F9E3DE-59D6-41F8-93C2-E293560F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6FC2B1-40C2-48FD-9DB0-8DAE9180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2597DB-4146-47C7-92CA-0F2CCB5C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22496A-01B5-4D5C-AC86-7B803F9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0F3B33-5B5E-49AC-B2D7-E54D0FCE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EDA275-1752-4FE9-BE63-CE04E4CE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D531D3-FC81-4F42-B5DF-3050B15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97388F-7B26-4CC7-AA69-54C88F02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6A0AE6-F3DD-451E-83F2-4C4E8D34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5183-9A42-45D1-84D6-6985DEE4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1966E3-DF5D-4A90-96B8-C132CB95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7EA300-570B-4378-9C57-945B7DF4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4DC45E-4EF7-4621-9DB0-1F08A716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FE3D3-DE2D-4C9C-A8A2-C4024AE1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BB4CC-BC14-41E8-9B26-A8CF5C8A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993-7622-4150-A2D7-660BA4B4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BE8A-AB08-4951-B5DA-2831EAC1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A916-B8CA-4C1A-AF46-078E2ACD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9CB3-4E57-4008-AB56-252225CF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1409-A6FB-4D2C-AC54-39383789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97CD-0D4A-46FC-92E4-CC3DE6F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04B2-1803-478F-A2D9-530C1B01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4AD8-14F7-4F1D-9E21-21F71B1E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E5FD7-C1C0-4C7C-9650-BA84A33D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9D2A7-2546-4A9F-AFB4-2AAE41ED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F1480-EA3B-4A47-A414-B08B6DB0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2AE-EE18-43EA-AF86-1322CB67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546D0-10C9-446A-88B0-1CF776D7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0B1D-8109-4B60-96E5-CD3AD1DD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17F4E-FE61-4128-AA21-BF217225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6DCE-F4EC-435E-AFA0-DC1FD5D2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50DC-D248-4E51-B0A2-362F3162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A586D-0BC7-4A00-8B3B-7C05BD9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967E8-5097-429D-9EAA-5D885443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FBA7E-8DB0-4B09-9B63-BD4EA678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D401-4E47-4A2C-8C4D-2993C835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1F9C-88E4-4774-9131-B0C8B934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6D6-CA67-4708-B954-10A0DD59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6EB5-DC73-479A-B874-9387B4AE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63411-1D68-4FBA-A280-931C3C9D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F6306-9E25-4A8A-AB1B-BFBFD793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69D8A-2E0F-4421-AC74-A3F051FC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DB5B-A049-473A-92F2-A95DF9C9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DE2F9-8E80-4609-ADDB-A37E2EBD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BAFB7-884F-4586-98B0-6AC3419F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3C4B3-3DB1-4FA1-8D3F-559E751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EA697-BDC6-4317-B5F7-9F20A35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9A34B-E082-4BEF-B9DB-BC9287D3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D62-F474-4B6F-9CCA-8DD1089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5D182-47FD-4DD0-B020-2C9830BC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7072B-608B-4EDC-B8FB-01A119A5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F692C-1921-4F4F-BDED-AFC37F27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F56D8-94DE-4432-8187-7AC372D7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86322-B2ED-4EEB-915F-BC74D0AD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1BFAA-CFC6-4B61-9DE6-D581754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4962-9BF3-4DAB-B50D-D4631B69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ECB33-1941-489B-BC73-DB9CE04C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9122-A109-455E-9F86-97140D87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83621-997A-4CA1-A5D5-6C830CF1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E08-991E-49C4-AEFE-0086A1A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E8853-38ED-4EB3-AD78-01713E5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8F1ED-5CB8-4472-A8AE-8249C05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D613A-3196-462C-A7CA-314CE8B0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A96A-AFC7-413F-A7BB-49D52F1D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A220C-B90E-4D0D-8C31-7701F17D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593C8-D15F-456E-80D1-CFF37E41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A0339-B1FD-440B-B1A3-1EC6A82C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4A9D1-B351-4FE6-8020-25358640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ED95C-8B27-404C-B8C4-3021DD60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8B5C8-F918-4793-B4B0-D8A91E42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4FC-A9D0-4C7F-BC47-25881A19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51EB7-F8B4-4C95-8D48-552BBAD1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1A46-0735-4C65-BC39-3492FFC4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6A4A8-FAE7-47DE-ACBC-4FFFD669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60F67-0729-43CC-985B-3835A99F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5251D-F519-480B-985A-8A66DCE6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F0ABD-7EC6-4983-9A8C-E7B6609E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9159F-A959-49FE-9A93-B7A0AD6D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80FA4-F835-486C-B963-28FC1E92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08321-42F2-468B-AEF1-39C2140C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9DE55-AA94-4039-B2E0-9F832F85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C3D5-5051-41F3-B072-152DBFEF89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5A70-8945-4EAF-9F6E-CBD133CCBF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4E46-800A-4EFB-90C1-C514568158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7D5A-C894-4828-8997-6D3EDA2CAF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4113-FC8C-472C-A4AE-7CF037CAC6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75C9-3698-4A8F-996D-6C001308D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0B3A-95AF-4107-8E27-C23D7380E1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74C2-49F6-4994-8F8F-564269AEC4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9AED-EF16-455B-9350-2BFBA3FC5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8CD-DB13-444F-B8DA-0F2E2B8FDF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E18D-B2FF-41D7-A489-1198755B19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A907-C3FE-481F-A820-76FC592A72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DC9B-C5FC-4517-9A3F-C7FF62E177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AE16-B5CD-4FB3-A384-17E02F16C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3DD7-ADDB-4DB0-A9C0-D843C14388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8DA2-3F24-427A-83CE-E1CE632A4F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331F-276D-4504-A61E-1BA8A79671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F9A2-CCEB-41CD-B1BC-BBF2677DAF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EFCE-B477-427D-85F1-782E30E6E6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FDF-96E5-49A3-BB28-180EDA2EEA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7E13-8292-44E9-A673-D298832184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E3A9-F07D-43FF-87B0-424E789D1B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1166-0DA0-4FFB-AD16-6DC7EF5953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F9F8-DCFC-49F8-B10F-F2BDE630E1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6109-05B1-4C35-9D5B-7C9964B24C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2780-734C-4C91-87E4-7E4ED6BFE8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A433-CE3A-4C10-A87E-85D5697839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AF28-CD41-4EBC-B5D5-5F369A8EF5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650F-102B-4DE7-B829-7C61AA22F6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BAAC-1FF6-41D8-9426-5BF3AE363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47E6-DE75-40FB-82FD-613FE8425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0EBD-CA7A-4694-8427-8BFB67D1E6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2043-4C01-4E9B-B8B8-C31296CF5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E6B3-A975-43DA-8258-B705CB0E1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3442-B198-40D7-9A4F-F2BA6C308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B3D8-9CFF-4BD5-86EC-99075385B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2E22-4BE4-47B5-A80C-D02E133A0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961B-869A-480A-A72B-7B8866B79F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9DFD-D6D4-4F98-9A52-3C111129C1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D7E9-A791-423C-852B-3AB5B7D6FF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2723-FF55-47D7-A823-253096CF3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292A-2D6F-4461-A243-8A2F6A8C59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9D92-FD4B-47CF-B5FF-748E37315A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5FE3-C6DF-4D58-BC55-9950139CB1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9DD3-5A01-4E6E-818A-E813336551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DB8F-935A-4886-9536-0CE2F47545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48F0-7F5E-4442-BE8C-6060D53E97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A5B7-0C47-4BAD-930A-57AF5AC2D1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3528-8B71-4039-A2B2-8442BB6FC5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06A3-6ED4-4172-A85E-54B9E2A060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066760" y="3129120"/>
            <a:ext cx="501048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6737" descr=""/>
          <p:cNvPicPr/>
          <p:nvPr/>
        </p:nvPicPr>
        <p:blipFill>
          <a:blip r:embed="rId1"/>
          <a:stretch/>
        </p:blipFill>
        <p:spPr>
          <a:xfrm>
            <a:off x="552600" y="1228680"/>
            <a:ext cx="7962840" cy="440064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6738"/>
          <p:cNvSpPr/>
          <p:nvPr/>
        </p:nvSpPr>
        <p:spPr>
          <a:xfrm>
            <a:off x="7835760" y="2235240"/>
            <a:ext cx="397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5713" descr=""/>
          <p:cNvPicPr/>
          <p:nvPr/>
        </p:nvPicPr>
        <p:blipFill>
          <a:blip r:embed="rId1"/>
          <a:stretch/>
        </p:blipFill>
        <p:spPr>
          <a:xfrm>
            <a:off x="762120" y="2238480"/>
            <a:ext cx="7619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4689" descr=""/>
          <p:cNvPicPr/>
          <p:nvPr/>
        </p:nvPicPr>
        <p:blipFill>
          <a:blip r:embed="rId1"/>
          <a:stretch/>
        </p:blipFill>
        <p:spPr>
          <a:xfrm>
            <a:off x="519120" y="1333440"/>
            <a:ext cx="8029440" cy="430524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4690"/>
          <p:cNvSpPr/>
          <p:nvPr/>
        </p:nvSpPr>
        <p:spPr>
          <a:xfrm>
            <a:off x="1403280" y="4797360"/>
            <a:ext cx="73454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4691"/>
          <p:cNvSpPr/>
          <p:nvPr/>
        </p:nvSpPr>
        <p:spPr>
          <a:xfrm>
            <a:off x="1346040" y="5273640"/>
            <a:ext cx="73454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113665" descr=""/>
          <p:cNvPicPr/>
          <p:nvPr/>
        </p:nvPicPr>
        <p:blipFill>
          <a:blip r:embed="rId1"/>
          <a:stretch/>
        </p:blipFill>
        <p:spPr>
          <a:xfrm>
            <a:off x="714240" y="762120"/>
            <a:ext cx="7543800" cy="577188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13666"/>
          <p:cNvSpPr/>
          <p:nvPr/>
        </p:nvSpPr>
        <p:spPr>
          <a:xfrm>
            <a:off x="812880" y="175896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7"/>
          <p:cNvSpPr/>
          <p:nvPr/>
        </p:nvSpPr>
        <p:spPr>
          <a:xfrm>
            <a:off x="907920" y="2225520"/>
            <a:ext cx="7575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68"/>
          <p:cNvSpPr/>
          <p:nvPr/>
        </p:nvSpPr>
        <p:spPr>
          <a:xfrm>
            <a:off x="812880" y="272088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3669"/>
          <p:cNvSpPr/>
          <p:nvPr/>
        </p:nvSpPr>
        <p:spPr>
          <a:xfrm>
            <a:off x="784080" y="3206880"/>
            <a:ext cx="7575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3670"/>
          <p:cNvSpPr/>
          <p:nvPr/>
        </p:nvSpPr>
        <p:spPr>
          <a:xfrm>
            <a:off x="784080" y="3683160"/>
            <a:ext cx="757584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71"/>
          <p:cNvSpPr/>
          <p:nvPr/>
        </p:nvSpPr>
        <p:spPr>
          <a:xfrm>
            <a:off x="746280" y="417816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3672"/>
          <p:cNvSpPr/>
          <p:nvPr/>
        </p:nvSpPr>
        <p:spPr>
          <a:xfrm>
            <a:off x="727200" y="465444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3673"/>
          <p:cNvSpPr/>
          <p:nvPr/>
        </p:nvSpPr>
        <p:spPr>
          <a:xfrm>
            <a:off x="841320" y="5140440"/>
            <a:ext cx="7575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3674"/>
          <p:cNvSpPr/>
          <p:nvPr/>
        </p:nvSpPr>
        <p:spPr>
          <a:xfrm>
            <a:off x="860400" y="566424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3675"/>
          <p:cNvSpPr/>
          <p:nvPr/>
        </p:nvSpPr>
        <p:spPr>
          <a:xfrm>
            <a:off x="822240" y="614052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2641" descr=""/>
          <p:cNvPicPr/>
          <p:nvPr/>
        </p:nvPicPr>
        <p:blipFill>
          <a:blip r:embed="rId1"/>
          <a:stretch/>
        </p:blipFill>
        <p:spPr>
          <a:xfrm>
            <a:off x="538200" y="871560"/>
            <a:ext cx="8029440" cy="528624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2642"/>
          <p:cNvSpPr/>
          <p:nvPr/>
        </p:nvSpPr>
        <p:spPr>
          <a:xfrm>
            <a:off x="955800" y="527364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2643"/>
          <p:cNvSpPr/>
          <p:nvPr/>
        </p:nvSpPr>
        <p:spPr>
          <a:xfrm>
            <a:off x="927000" y="579744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11617" descr=""/>
          <p:cNvPicPr/>
          <p:nvPr/>
        </p:nvPicPr>
        <p:blipFill>
          <a:blip r:embed="rId1"/>
          <a:stretch/>
        </p:blipFill>
        <p:spPr>
          <a:xfrm>
            <a:off x="762120" y="1519200"/>
            <a:ext cx="7543800" cy="389592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11618"/>
          <p:cNvSpPr/>
          <p:nvPr/>
        </p:nvSpPr>
        <p:spPr>
          <a:xfrm>
            <a:off x="1127160" y="201600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1619"/>
          <p:cNvSpPr/>
          <p:nvPr/>
        </p:nvSpPr>
        <p:spPr>
          <a:xfrm>
            <a:off x="1146240" y="248292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1620"/>
          <p:cNvSpPr/>
          <p:nvPr/>
        </p:nvSpPr>
        <p:spPr>
          <a:xfrm>
            <a:off x="1174680" y="295920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1621"/>
          <p:cNvSpPr/>
          <p:nvPr/>
        </p:nvSpPr>
        <p:spPr>
          <a:xfrm>
            <a:off x="1117440" y="3483000"/>
            <a:ext cx="7575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1622"/>
          <p:cNvSpPr/>
          <p:nvPr/>
        </p:nvSpPr>
        <p:spPr>
          <a:xfrm>
            <a:off x="1079640" y="397836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1623"/>
          <p:cNvSpPr/>
          <p:nvPr/>
        </p:nvSpPr>
        <p:spPr>
          <a:xfrm>
            <a:off x="1079640" y="446400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1624"/>
          <p:cNvSpPr/>
          <p:nvPr/>
        </p:nvSpPr>
        <p:spPr>
          <a:xfrm>
            <a:off x="1089000" y="497844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10593" descr=""/>
          <p:cNvPicPr/>
          <p:nvPr/>
        </p:nvPicPr>
        <p:blipFill>
          <a:blip r:embed="rId1"/>
          <a:stretch/>
        </p:blipFill>
        <p:spPr>
          <a:xfrm>
            <a:off x="738360" y="923760"/>
            <a:ext cx="75722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09569" descr=""/>
          <p:cNvPicPr/>
          <p:nvPr/>
        </p:nvPicPr>
        <p:blipFill>
          <a:blip r:embed="rId1"/>
          <a:stretch/>
        </p:blipFill>
        <p:spPr>
          <a:xfrm>
            <a:off x="590400" y="1757520"/>
            <a:ext cx="7963200" cy="3400200"/>
          </a:xfrm>
          <a:prstGeom prst="rect">
            <a:avLst/>
          </a:prstGeom>
          <a:ln w="0">
            <a:noFill/>
          </a:ln>
        </p:spPr>
      </p:pic>
      <p:sp>
        <p:nvSpPr>
          <p:cNvPr id="1494" name="矩形 109570"/>
          <p:cNvSpPr/>
          <p:nvPr/>
        </p:nvSpPr>
        <p:spPr>
          <a:xfrm>
            <a:off x="1031760" y="2244600"/>
            <a:ext cx="7575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9571"/>
          <p:cNvSpPr/>
          <p:nvPr/>
        </p:nvSpPr>
        <p:spPr>
          <a:xfrm>
            <a:off x="1012680" y="2759040"/>
            <a:ext cx="7575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09572"/>
          <p:cNvSpPr/>
          <p:nvPr/>
        </p:nvSpPr>
        <p:spPr>
          <a:xfrm>
            <a:off x="974880" y="3225960"/>
            <a:ext cx="75754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09573"/>
          <p:cNvSpPr/>
          <p:nvPr/>
        </p:nvSpPr>
        <p:spPr>
          <a:xfrm>
            <a:off x="1022400" y="371160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9574"/>
          <p:cNvSpPr/>
          <p:nvPr/>
        </p:nvSpPr>
        <p:spPr>
          <a:xfrm>
            <a:off x="1041480" y="4206960"/>
            <a:ext cx="75754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9575"/>
          <p:cNvSpPr/>
          <p:nvPr/>
        </p:nvSpPr>
        <p:spPr>
          <a:xfrm>
            <a:off x="1060560" y="4702320"/>
            <a:ext cx="75754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图片 108545" descr=""/>
          <p:cNvPicPr/>
          <p:nvPr/>
        </p:nvPicPr>
        <p:blipFill>
          <a:blip r:embed="rId1"/>
          <a:stretch/>
        </p:blipFill>
        <p:spPr>
          <a:xfrm>
            <a:off x="528480" y="747720"/>
            <a:ext cx="7991640" cy="5800680"/>
          </a:xfrm>
          <a:prstGeom prst="rect">
            <a:avLst/>
          </a:prstGeom>
          <a:ln w="0">
            <a:noFill/>
          </a:ln>
        </p:spPr>
      </p:pic>
      <p:sp>
        <p:nvSpPr>
          <p:cNvPr id="1501" name="矩形 108546"/>
          <p:cNvSpPr/>
          <p:nvPr/>
        </p:nvSpPr>
        <p:spPr>
          <a:xfrm>
            <a:off x="1003320" y="119232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8547"/>
          <p:cNvSpPr/>
          <p:nvPr/>
        </p:nvSpPr>
        <p:spPr>
          <a:xfrm>
            <a:off x="993600" y="1677960"/>
            <a:ext cx="757584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8548"/>
          <p:cNvSpPr/>
          <p:nvPr/>
        </p:nvSpPr>
        <p:spPr>
          <a:xfrm>
            <a:off x="936720" y="215424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08549"/>
          <p:cNvSpPr/>
          <p:nvPr/>
        </p:nvSpPr>
        <p:spPr>
          <a:xfrm>
            <a:off x="974880" y="268776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08550"/>
          <p:cNvSpPr/>
          <p:nvPr/>
        </p:nvSpPr>
        <p:spPr>
          <a:xfrm>
            <a:off x="1041480" y="317340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8551"/>
          <p:cNvSpPr/>
          <p:nvPr/>
        </p:nvSpPr>
        <p:spPr>
          <a:xfrm>
            <a:off x="1022400" y="3678120"/>
            <a:ext cx="75754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8552"/>
          <p:cNvSpPr/>
          <p:nvPr/>
        </p:nvSpPr>
        <p:spPr>
          <a:xfrm>
            <a:off x="936720" y="419256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08553"/>
          <p:cNvSpPr/>
          <p:nvPr/>
        </p:nvSpPr>
        <p:spPr>
          <a:xfrm>
            <a:off x="1031760" y="4678200"/>
            <a:ext cx="75758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08554"/>
          <p:cNvSpPr/>
          <p:nvPr/>
        </p:nvSpPr>
        <p:spPr>
          <a:xfrm>
            <a:off x="917640" y="5154480"/>
            <a:ext cx="75754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08555"/>
          <p:cNvSpPr/>
          <p:nvPr/>
        </p:nvSpPr>
        <p:spPr>
          <a:xfrm>
            <a:off x="927000" y="5630760"/>
            <a:ext cx="75754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08556"/>
          <p:cNvSpPr/>
          <p:nvPr/>
        </p:nvSpPr>
        <p:spPr>
          <a:xfrm>
            <a:off x="927000" y="6116760"/>
            <a:ext cx="75754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34360" cy="439128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6588000" y="235908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5969160" y="3102120"/>
            <a:ext cx="5648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6443640" y="3505320"/>
            <a:ext cx="5652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1663560" y="381636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3825720" y="4549680"/>
            <a:ext cx="10908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1177920" y="527364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3905" descr=""/>
          <p:cNvPicPr/>
          <p:nvPr/>
        </p:nvPicPr>
        <p:blipFill>
          <a:blip r:embed="rId1"/>
          <a:stretch/>
        </p:blipFill>
        <p:spPr>
          <a:xfrm>
            <a:off x="399960" y="2014560"/>
            <a:ext cx="8344080" cy="282888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3906"/>
          <p:cNvSpPr/>
          <p:nvPr/>
        </p:nvSpPr>
        <p:spPr>
          <a:xfrm>
            <a:off x="1701720" y="269244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7"/>
          <p:cNvSpPr/>
          <p:nvPr/>
        </p:nvSpPr>
        <p:spPr>
          <a:xfrm>
            <a:off x="4130640" y="304488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08"/>
          <p:cNvSpPr/>
          <p:nvPr/>
        </p:nvSpPr>
        <p:spPr>
          <a:xfrm>
            <a:off x="5549760" y="3406680"/>
            <a:ext cx="1043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09"/>
          <p:cNvSpPr/>
          <p:nvPr/>
        </p:nvSpPr>
        <p:spPr>
          <a:xfrm>
            <a:off x="3959280" y="4140360"/>
            <a:ext cx="5652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2881" descr=""/>
          <p:cNvPicPr/>
          <p:nvPr/>
        </p:nvPicPr>
        <p:blipFill>
          <a:blip r:embed="rId1"/>
          <a:stretch/>
        </p:blipFill>
        <p:spPr>
          <a:xfrm>
            <a:off x="404640" y="852480"/>
            <a:ext cx="8334720" cy="51721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2882"/>
          <p:cNvSpPr/>
          <p:nvPr/>
        </p:nvSpPr>
        <p:spPr>
          <a:xfrm>
            <a:off x="8140680" y="239724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2883"/>
          <p:cNvSpPr/>
          <p:nvPr/>
        </p:nvSpPr>
        <p:spPr>
          <a:xfrm>
            <a:off x="8150400" y="499752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1858" descr=""/>
          <p:cNvPicPr/>
          <p:nvPr/>
        </p:nvPicPr>
        <p:blipFill>
          <a:blip r:embed="rId1"/>
          <a:stretch/>
        </p:blipFill>
        <p:spPr>
          <a:xfrm>
            <a:off x="433440" y="1380960"/>
            <a:ext cx="8334360" cy="139068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1859" descr=""/>
          <p:cNvPicPr/>
          <p:nvPr/>
        </p:nvPicPr>
        <p:blipFill>
          <a:blip r:embed="rId2"/>
          <a:stretch/>
        </p:blipFill>
        <p:spPr>
          <a:xfrm>
            <a:off x="395280" y="3290760"/>
            <a:ext cx="8334360" cy="211464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21860"/>
          <p:cNvSpPr/>
          <p:nvPr/>
        </p:nvSpPr>
        <p:spPr>
          <a:xfrm>
            <a:off x="8188200" y="1758960"/>
            <a:ext cx="397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61"/>
          <p:cNvSpPr/>
          <p:nvPr/>
        </p:nvSpPr>
        <p:spPr>
          <a:xfrm>
            <a:off x="5921280" y="4083120"/>
            <a:ext cx="397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472464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4245120" y="180648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0835"/>
          <p:cNvSpPr/>
          <p:nvPr/>
        </p:nvSpPr>
        <p:spPr>
          <a:xfrm>
            <a:off x="8159760" y="446400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9809" descr=""/>
          <p:cNvPicPr/>
          <p:nvPr/>
        </p:nvPicPr>
        <p:blipFill>
          <a:blip r:embed="rId1"/>
          <a:stretch/>
        </p:blipFill>
        <p:spPr>
          <a:xfrm>
            <a:off x="371520" y="1384200"/>
            <a:ext cx="8334360" cy="409572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9811"/>
          <p:cNvSpPr/>
          <p:nvPr/>
        </p:nvSpPr>
        <p:spPr>
          <a:xfrm>
            <a:off x="8112240" y="259704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9812"/>
          <p:cNvSpPr/>
          <p:nvPr/>
        </p:nvSpPr>
        <p:spPr>
          <a:xfrm>
            <a:off x="8131320" y="405432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8785" descr=""/>
          <p:cNvPicPr/>
          <p:nvPr/>
        </p:nvPicPr>
        <p:blipFill>
          <a:blip r:embed="rId1"/>
          <a:stretch/>
        </p:blipFill>
        <p:spPr>
          <a:xfrm>
            <a:off x="357120" y="773280"/>
            <a:ext cx="8334360" cy="212400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118786" descr=""/>
          <p:cNvPicPr/>
          <p:nvPr/>
        </p:nvPicPr>
        <p:blipFill>
          <a:blip r:embed="rId2"/>
          <a:stretch/>
        </p:blipFill>
        <p:spPr>
          <a:xfrm>
            <a:off x="343080" y="3076560"/>
            <a:ext cx="8343720" cy="359100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8787"/>
          <p:cNvSpPr/>
          <p:nvPr/>
        </p:nvSpPr>
        <p:spPr>
          <a:xfrm>
            <a:off x="8093160" y="148284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8788"/>
          <p:cNvSpPr/>
          <p:nvPr/>
        </p:nvSpPr>
        <p:spPr>
          <a:xfrm>
            <a:off x="8093160" y="487368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7761" descr=""/>
          <p:cNvPicPr/>
          <p:nvPr/>
        </p:nvPicPr>
        <p:blipFill>
          <a:blip r:embed="rId1"/>
          <a:stretch/>
        </p:blipFill>
        <p:spPr>
          <a:xfrm>
            <a:off x="399960" y="2352600"/>
            <a:ext cx="8344080" cy="215280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7762"/>
          <p:cNvSpPr/>
          <p:nvPr/>
        </p:nvSpPr>
        <p:spPr>
          <a:xfrm>
            <a:off x="8150400" y="2701800"/>
            <a:ext cx="396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18:54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